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6195D-51DA-4E2F-9D5D-6FF8A6385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2C332-FFCE-4D6B-85A6-E184CA525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437CEC-9C1E-46CB-A236-6D9DB2318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0D53B4-6B18-47BE-913F-4A9C3924B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3689AE-5FC1-4810-B9B6-7E6C0DC52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0600BC-63ED-45C9-AD35-98B327F73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87A164-7A60-4A85-9968-94DCD5F1B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65C700-247E-4DE3-9F45-64A22E26D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75DD63-B53D-4000-AA39-9C42DCE45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2E6655-EB42-4691-A518-3F2CBE041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FEDADC-6052-4CA8-A791-B47BE13F5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45792B-91B0-4372-B3EA-E2E69D47B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2A788-F82D-4061-B20A-2018BFA18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CAAE77-3E83-423F-94D5-6AD4C8F83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089ACB-917A-4701-A0A0-55BF51260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7F8E3E-6017-4D37-B648-4A025950B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5ECED2-A86B-41A4-BF36-028AB7123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EFF02F-8614-42BE-B6CD-3D02EBEB7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3C716F-705F-4ECE-9A44-69C72DB56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357664-2AF6-422C-A5FC-A10584540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2786FD-A0BF-4F70-BA6A-155DCA6CB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C83F4C-78B4-4E31-92C7-D2ABD1220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D190AB-C4B5-4301-9B96-84254A84F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43285-5849-41BC-A92F-A55CCB7EC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DFB7EB-E027-4199-962F-2F5B224CA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8AFB2A-1A59-4F0F-BE89-E3DB7DFA4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378FBB-B1F4-4FDB-82A8-562DF355B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BC0783-96C8-4A89-9685-CEE42E91D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91CA3A-FFD4-441D-AFEB-F54DE727C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896E31-EAA5-45EC-A1DD-0D808303E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C892D0-7EA0-48FF-90E9-7D915D13A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5C12BC-783F-4A13-94AF-43D1E0B7F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013F71-6D94-48DC-9B28-E84C21BC3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C1138E-137A-4636-8D32-6113B0AAE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6B2B9-248D-46D1-A161-5BFA602C1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D2302E-DFA1-446F-9AF9-112A7A454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A8A5CD-E55D-4E49-AC0B-63C0F6E96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0CEC98-6912-4520-B7F3-19EE43C4F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803FE7-A4F2-482C-8CD3-22C238846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23BB48-BC70-47CB-98D3-C95BFC8EC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FD950E-0E76-4E37-AB6F-9916B44A3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E16076-C3A1-4D38-B8E9-48A8A2D30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F6F866-DF65-4FD7-85C1-8FB2D0BD3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E9F0DA-A7B6-454C-9759-E8B6B4105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6A44CB-7985-4493-A867-4337C9EFE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32248-6720-4EFA-9EC7-A1A806A19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0D605D-8F1C-4EE0-B0C3-00A293E90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1595AA-C3AC-4C58-B8F8-DCAC7C898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048F04-9E3F-4AB7-886E-CAFCFD14B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9B6904-F075-46B6-9F49-D11F6A5C4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A92389-97B2-4A49-A640-AF8BD054F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B67DF5E-D6EE-44D2-8C91-4F877EA68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AFFC1F3-1335-4556-800B-7E1D10D93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1BDBD4A-DE8F-4648-B0F0-A35C2B479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9E9C702-20DB-42F1-A01D-5B891ED58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62024AC-5D2C-4445-AF7F-B07E836A1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F3273-78F7-4A5B-91A4-FD022DDAD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2D38D8C-21D6-4ED0-B38F-59D6EA8E8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09CC8E5-53E4-4B1D-952E-6911F9148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84D4F1F-C00F-4CA3-BDDF-19FD33F48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0782549-7A65-49F6-9541-870986269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0039DBE-6EB3-4115-B87A-4FB71C7FF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D259BAB-8E7C-401F-9BF3-C63A91C5A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163D508-9728-4B15-B6E5-DBF0ACBDF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5373214-67E3-475F-A7C0-89EA3F77A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2212316-CFD8-4E21-9DF8-6F8800815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552EA04-8D0B-48AE-AF1F-A5C1C5897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FF099-9797-4497-9252-9E3140C81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F2D5818-210F-469F-9945-FAAD52795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DC1850A-CB5E-4257-A6BB-2203CCD21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A0C4074-4475-43B9-B6AE-51A15C671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DE04453-5456-45A2-BEE5-63EF25817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7D132FD-7B90-4073-B93A-EFCC6AFA3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2AA83CC-FFB8-46A4-9AD5-045716274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97EDD08-17A4-4D03-B93A-05C4C0C8F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E6E035C-8169-4BC9-818C-5C6653110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4A5D00A-FBED-4183-A72F-9882A150C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8395D93-6316-46E2-AD43-3D6F9F4D1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DC05F-25BE-49A5-B163-36DDABB13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2D583D4-7577-4719-A738-3184F2F66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FD1FFE7-90C0-461D-979F-8A8A62403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501D484-7BCF-4B78-ADA4-BC657522C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F07F7AC-F3B5-41D6-8237-21D2D8E5E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6091142-1E7F-42B7-8EC3-90175C25A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D359991-F034-4635-9B56-619FA9E39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C04BDC1-EF7D-42F9-A55B-A81A25BA4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0ACE9FE-1DF7-4667-9A6B-C0C13FCB6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70C299B-6C1D-4673-BCF9-C206A9085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2EB4B00-E420-4CE4-91E0-187C25E15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3B172-BEB5-4A74-AEAF-ED3A5FBB2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6669F58-7729-4985-A927-609D79776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FBA4F9F-E154-476D-AC62-27AAFF58F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C512893-EED8-45C8-9ACF-1285B8B11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BE10178-CBD4-48D9-A1D0-2F3DB10E6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74E2131-E666-46E7-9800-8F921BFEC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DA15A70-A3AE-4422-82A2-73C3BE054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0722234-376B-474A-B946-DA90DD705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9510AF2-417C-426E-A61E-1A83FB837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DF1D6F6-4A36-4802-A0F1-0C309177D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5840231-2C70-424F-AADA-70361EC78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67DEA-F592-42B0-8077-904DC49B4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15DBBC4-20CE-43C5-8786-3915F4248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611A31C-F702-4D3F-B822-344CB1D03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2D9E2B1-2EEB-4BCC-A552-83F5A62DC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C25F074-58B1-42D7-B763-A66D151BA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2CE3873-35BB-4DEE-B739-1FDAAEE8B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64BFBD6-CE84-483A-A5D1-4CB996FDC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B723EF7-BE52-4733-8516-B85399E96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25CE41E-1021-41A3-84EB-5EC724AC9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E114ECB-1BA7-4ADE-82BA-DC9AE99CB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71B0055-D04B-46A2-968F-CC326084D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6237A-5199-4A08-9FB8-46A9B5B64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C222E-ECDB-4D23-99CD-6193A7E2B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99C9877-4721-4EE1-8206-6F66C18E1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95AB91F-C0F2-4E81-B113-52C72D3CB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2A1734B-A9C9-428C-9477-15FC42145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66F1CFB-7B81-4576-897E-A48AE5344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9B055CD-BDFA-45F1-A668-457745A65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C686E9A-8604-4E4C-9A79-A64FB3FBF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4DD5F69-6048-45E2-BC4A-A5341F053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4EED499-AC0C-46BF-9ED5-312472C44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88E2893-0743-4C44-A830-D3FA611E4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07ACDF0-81B1-4E85-AE83-15F2A5100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6AF90-5FBA-4DF7-80F9-6DE8546B0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C037D9D-CC9D-4B0F-B5F4-24A0A3CF1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9F6100F-27B8-402F-B8CA-A58B6AA93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E9273D6-1917-4FC3-BD53-4DFE6E390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7701969-5FC4-49F8-B07F-305FE9BB8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859A312-8EEA-4A78-9DF2-D0D537930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5F1097D-C38A-4631-8590-7C337FC1E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54B6437-830A-4472-886E-924F2D381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4A79CFB-D525-4768-AF02-65989FBB2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5D85C19-09F1-4FD4-B78C-5E9D66162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B955939-2B1E-4928-B760-BA7715D14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53709-3D51-41CE-B153-C3BEB80F9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41F31AC-9FEA-4FD3-926B-E23BCFA21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8BC415B-E6D9-40B3-A68A-47EE0507C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BF08819-9FBF-4E9E-B92E-A6955D0F8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5053BCA-DA4E-45C4-97B9-BF3D9A2A7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F43E3AE-AFB0-49C6-AB5B-41A588F3F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F23E0CC-5D1C-4DA9-BC27-E687089B2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BD3B34B-8AD7-4A9B-87D1-2005D19C2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0BA9967-8177-4A65-9D86-FEB2D18A7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AD16C42-59BF-43C2-8129-63E339425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E7AFF41-2101-4574-9903-B3FB586DF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298F1-079F-4CC5-AE18-5BE07CB76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10170AB-9CBA-44A1-8E32-8481E8B7F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01D7CF5-7D19-4DBA-A401-2AEA69C9E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15129BD-51D6-4C65-A7DC-F7F806620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50DCA67-3565-4559-9C2E-02530749C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1C09645-A8D8-467B-ACF8-62C08266B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6ABDC35-BAFB-4642-AA88-253E244D1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4670E66-75A8-416A-96DD-FCB148E09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FBCD925-3DBD-4B91-9710-807854AE9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5E18B5F-44AC-40D3-8A58-AA5A3DB9A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9D46259-47DA-491D-A840-B07F6B52B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54E53-4C8E-423A-A196-7DAE5363B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F31E26C-3CE6-4F21-B026-0B770E9B4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E6E5295-7B62-4FA4-B122-5F260EFF5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482BFCD-4DBD-40ED-AEAA-55573AE33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D5037ED-E673-4C01-A9CB-4E6E736FB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BF1FCA7-A1B3-41AA-90A3-B57FCB262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1DA274D-4C1E-44D4-ACA1-A2C8AFE33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863CF81-D5A2-4821-846A-5BF7CE3E7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1F18751-D76B-4C19-B515-BBAEEAABC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0741EC8-F4CD-4854-8794-7FE27EAF7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7AB9684-6CB7-46CD-A76C-6D2B18AAF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F884E9-BFC7-41BD-B105-DED0FBF02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4B15E66-5A2C-4306-8286-0C3AE5B2D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420FD14-26EA-4FB2-B66B-D95DBAC34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3287BED-6F3B-4C4C-8FF9-3359F740A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C1A36E-760B-4DE8-879B-AE318DF5E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B9FA0B-2C87-4C25-BDFA-F27863997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B44593-025C-49AA-844C-F68948235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37A653-7CDF-498A-B14F-19B0F2914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75434-9183-4BE4-9FF5-2E7F6CE0B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DDF565-5642-440B-A34A-1D99A81E2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1989B9-42AA-48B0-A9B9-F4D2CA4F8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DF8458-F7C6-4B9F-82D2-63BEE77FB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E8EB14-3012-4A76-B99A-22FF1CB68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064C47-911C-483C-894E-D9886BEEE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7EBF33-91BC-4232-8786-127A38B8F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CA6970-C2F2-492C-A9F8-FF5DA3015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8EF93A-188B-4D55-8C99-FC635D6C9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65420A-FF43-40E0-9795-62E785C83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0DFA80-E4EF-4F86-A24B-31A40BB11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79F88-C066-465A-B82A-2CB18A72F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C73D7A-2941-49B5-83EE-FAA937F78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9BB002-E075-4C2F-90CC-8B614908B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ED8CDE-EB6E-4668-9A14-980051411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C2F808-FC63-4016-8B00-124E28E7D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EF3DE2-E20F-46AB-96E2-517DC095C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F95CC9-C2E5-4FCC-80D6-3B3FBDB2A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744E27-97AA-4B5B-BC75-C4D59DDF7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BEE86D-D477-4804-8D2E-BCF7C9210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A9348A-F60D-44CF-813F-BFE90AD20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8344E0-1B30-4F76-81D7-962B44CAF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76244-849A-4737-8F70-2E7BDA4BB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1FDBCB-6550-4880-91C2-73D797B0D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53EFCA-9297-4E2A-A0B6-CDC8C08E3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227EA3-6ADD-4248-B56C-016466370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553114-9D36-462B-A29F-B0ABDEF88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64D160-9DBD-49D5-A396-49BFB342B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0A4BE4-68CF-48B6-88B8-6328209A9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EE2D99-E9D9-4D7D-BF8C-F48102CC9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8B28E1-6C64-4435-85C6-70AAACC44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4BF52D-F76D-49C2-BADA-57245B08C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94180A-1AFF-4E63-8112-180B25F68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32F75-0C23-4B3F-8E97-BC66205AE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29D00E-BEBE-4904-89E3-F7D378812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338019-3278-40B3-AD43-162E8D1E0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9E1790-F719-4A30-9860-9C12F97A5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39A59B-1CF8-46BD-ACD2-2CF0E70C2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909FE1-FAC8-4518-A0A5-476BA3983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FDB77A-B5C8-4D5C-9DF3-188277BA3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2B3834-21BD-47FE-91DC-BA71B5A18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BB5527-4366-405D-8BDC-16002E25C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4FD3E5-B9EB-4844-BC50-67009EE23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64D1B3-BAEB-4653-93DC-317CD6EDF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5ABAC-1C68-4DEA-8131-2F2E6A8C6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E6DCAD-2EAB-4CD6-93ED-C2C17038E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F7E0BF-A718-4ED9-A329-2D7BFA1FA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907567-356E-40DC-B133-989D74ED5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0F9032-48DB-4ADD-9DB5-49FC6366B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59ACEB-871F-4565-873C-0491F9B48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ECE721-277D-4F6F-B8E3-5CD18441A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9EAED4-5EF3-4C39-868D-F9425E0BB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35E6E8-600D-4885-9D46-E6FAA0F4B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6F876E-06D0-4EBB-A573-DB36D2213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472C1C-CF6A-47AC-A735-7871D9C19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1459F-4D2F-4A0C-A5FF-FB0C4CBAF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3FEC45-7A63-4BD0-BBB9-9B440E82D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B4E4BE-0B3A-4634-B36A-19FA48B85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D0E156-1116-4B09-BF80-0184F0716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5391B4-EA4B-4ED9-8B41-951CD9CD4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3DEF46-F88B-44BE-BC88-8AE8E1279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F8715A-5483-47B7-950C-B77EEC181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F6CD66-5E5F-4DB6-8049-67D44A32C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91608A-19F3-4F49-80A5-EBBC5CEBE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5380A2-418C-4765-BEAA-41958ACAC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F7E888-F98E-40C7-84BA-2CF45D259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07F93-4B0F-41D7-A2D8-E7EACB809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4A90A6-0014-485A-B897-C408EDB14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00BAD9-FAF3-45BB-9AB8-F25AA5A08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47FDB1-204B-4F76-A410-D7041EE2D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388932-BE12-485C-A8C3-11804F869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CAD190-4F29-45BC-832D-240571FDA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E70361-E370-4FE4-972B-388963480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B9AE89-3424-400F-95F0-F011AFF4F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EC2613-E5AA-422D-864E-684259390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298C62-5383-45B1-B4AA-A1363532C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FF30F2-755D-4E91-898D-FEDBC6DAF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BE850-D5CD-4A4B-95DD-E315131A7C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C44C2-FF51-4AD8-A595-E074376EC5C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FFEB5-9D79-4358-8FD7-404C19B15DC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5C257-0C2C-4726-B720-B140A23CA48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7D7C5-C3DE-4A20-A46C-F4C1CDC1B84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EA753-A559-47FE-9CAE-F40C52B7CDC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B65E1-C816-4A49-93E2-E3841A63524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836C6-A7AE-413F-AB63-C5E25A7EE35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92821-358F-4F3A-864E-1BA59AC5A02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4145F-7B5C-4B01-9C76-B7CAE7D7C01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C5FE6-81D1-4721-A6AC-ECB7BB79C52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C296A-8C03-4EAA-9A6E-B1521168893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BCCF3-5FDE-41F1-8826-E4030BD8DA1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9BB41-FA91-48FF-B760-069DA8B5182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41EFD-360F-45ED-ABD3-BECD5D57C2A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2A882-51A1-4CE6-8F27-9B607E17257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5DC98-DA37-4C83-B57C-4B6413CDFEF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F6CF6-E0AF-433B-BC35-6B461BB0E0E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40EB7-B723-472E-A249-4151C5B344F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5203C-2186-462F-821E-794A044C152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0E797-B4C6-4598-A450-869E031AAC7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586E0-231B-4DA9-8492-98FA818E2DB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99A54-0781-4DCB-B209-852D5619B90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F1C62-385A-454E-A960-B1522DE6DD7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FCD5C-EA92-4698-811B-9FE78897BAC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1970F-A343-476E-A441-A48FB5D8C1E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12542-BB7B-46B9-B88A-A0E56225FC6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9DD26-5208-4D3A-B753-9774CEE1A1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F13BB-1AFE-431C-853B-EA9D00D98CC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2EAB6-2986-4046-9804-44548CB60A4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BEC8A-3C5B-4093-B3D9-B5EDC1D0DA5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7A994-5C0F-40CB-B326-769D665A37E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A371C-CCB8-44E2-A780-60E0BB4B817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50503-DEDC-47F4-A165-5300D891674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99B89-60AA-4880-AC01-5343D164A2F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34E10-5827-41E1-83BE-41E79F3A210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5F4DB-C896-436E-9E91-53075BE35BA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612AE-E264-4EE6-8DA2-A23E5D29C52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03312-0578-4BA2-8DB1-2D73260A23E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E4631-85B1-4B61-A122-F41C6BBA46A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5.png"/><Relationship Id="rId11" Type="http://schemas.openxmlformats.org/officeDocument/2006/relationships/image" Target="../media/image15.png"/><Relationship Id="rId12" Type="http://schemas.openxmlformats.org/officeDocument/2006/relationships/image" Target="../media/image15.png"/><Relationship Id="rId1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5.png"/><Relationship Id="rId11" Type="http://schemas.openxmlformats.org/officeDocument/2006/relationships/image" Target="../media/image15.png"/><Relationship Id="rId1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Picture 2" descr=""/>
          <p:cNvPicPr/>
          <p:nvPr/>
        </p:nvPicPr>
        <p:blipFill>
          <a:blip r:embed="rId1"/>
          <a:stretch/>
        </p:blipFill>
        <p:spPr>
          <a:xfrm>
            <a:off x="3203640" y="3075120"/>
            <a:ext cx="2235240" cy="5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2" name="Picture 2" descr=""/>
          <p:cNvPicPr/>
          <p:nvPr/>
        </p:nvPicPr>
        <p:blipFill>
          <a:blip r:embed="rId1"/>
          <a:stretch/>
        </p:blipFill>
        <p:spPr>
          <a:xfrm>
            <a:off x="95400" y="708120"/>
            <a:ext cx="8953200" cy="6105600"/>
          </a:xfrm>
          <a:prstGeom prst="rect">
            <a:avLst/>
          </a:prstGeom>
          <a:ln w="0">
            <a:noFill/>
          </a:ln>
        </p:spPr>
      </p:pic>
      <p:pic>
        <p:nvPicPr>
          <p:cNvPr id="923" name="Picture 3" descr=""/>
          <p:cNvPicPr/>
          <p:nvPr/>
        </p:nvPicPr>
        <p:blipFill>
          <a:blip r:embed="rId2"/>
          <a:stretch/>
        </p:blipFill>
        <p:spPr>
          <a:xfrm>
            <a:off x="6657840" y="668160"/>
            <a:ext cx="1009800" cy="45720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4" descr=""/>
          <p:cNvPicPr/>
          <p:nvPr/>
        </p:nvPicPr>
        <p:blipFill>
          <a:blip r:embed="rId3"/>
          <a:stretch/>
        </p:blipFill>
        <p:spPr>
          <a:xfrm>
            <a:off x="539640" y="1720800"/>
            <a:ext cx="8163000" cy="62856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5" descr=""/>
          <p:cNvPicPr/>
          <p:nvPr/>
        </p:nvPicPr>
        <p:blipFill>
          <a:blip r:embed="rId4"/>
          <a:stretch/>
        </p:blipFill>
        <p:spPr>
          <a:xfrm>
            <a:off x="539640" y="2400480"/>
            <a:ext cx="8382240" cy="60948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6" descr=""/>
          <p:cNvPicPr/>
          <p:nvPr/>
        </p:nvPicPr>
        <p:blipFill>
          <a:blip r:embed="rId5"/>
          <a:stretch/>
        </p:blipFill>
        <p:spPr>
          <a:xfrm>
            <a:off x="930240" y="3367080"/>
            <a:ext cx="8105760" cy="99072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7" descr=""/>
          <p:cNvPicPr/>
          <p:nvPr/>
        </p:nvPicPr>
        <p:blipFill>
          <a:blip r:embed="rId6"/>
          <a:stretch/>
        </p:blipFill>
        <p:spPr>
          <a:xfrm>
            <a:off x="477720" y="4419720"/>
            <a:ext cx="1657440" cy="942840"/>
          </a:xfrm>
          <a:prstGeom prst="rect">
            <a:avLst/>
          </a:prstGeom>
          <a:ln w="0">
            <a:noFill/>
          </a:ln>
        </p:spPr>
      </p:pic>
      <p:pic>
        <p:nvPicPr>
          <p:cNvPr id="928" name="Picture 9" descr=""/>
          <p:cNvPicPr/>
          <p:nvPr/>
        </p:nvPicPr>
        <p:blipFill>
          <a:blip r:embed="rId7"/>
          <a:stretch/>
        </p:blipFill>
        <p:spPr>
          <a:xfrm>
            <a:off x="3708360" y="5978520"/>
            <a:ext cx="504720" cy="28584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9" descr=""/>
          <p:cNvPicPr/>
          <p:nvPr/>
        </p:nvPicPr>
        <p:blipFill>
          <a:blip r:embed="rId8"/>
          <a:stretch/>
        </p:blipFill>
        <p:spPr>
          <a:xfrm>
            <a:off x="5559480" y="5983200"/>
            <a:ext cx="504720" cy="28584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9" descr=""/>
          <p:cNvPicPr/>
          <p:nvPr/>
        </p:nvPicPr>
        <p:blipFill>
          <a:blip r:embed="rId9"/>
          <a:stretch/>
        </p:blipFill>
        <p:spPr>
          <a:xfrm>
            <a:off x="7504200" y="5978520"/>
            <a:ext cx="504720" cy="285840"/>
          </a:xfrm>
          <a:prstGeom prst="rect">
            <a:avLst/>
          </a:prstGeom>
          <a:ln w="0">
            <a:noFill/>
          </a:ln>
        </p:spPr>
      </p:pic>
      <p:pic>
        <p:nvPicPr>
          <p:cNvPr id="931" name="Picture 9" descr=""/>
          <p:cNvPicPr/>
          <p:nvPr/>
        </p:nvPicPr>
        <p:blipFill>
          <a:blip r:embed="rId10"/>
          <a:stretch/>
        </p:blipFill>
        <p:spPr>
          <a:xfrm>
            <a:off x="3708360" y="6319800"/>
            <a:ext cx="504720" cy="285840"/>
          </a:xfrm>
          <a:prstGeom prst="rect">
            <a:avLst/>
          </a:prstGeom>
          <a:ln w="0">
            <a:noFill/>
          </a:ln>
        </p:spPr>
      </p:pic>
      <p:pic>
        <p:nvPicPr>
          <p:cNvPr id="932" name="Picture 9" descr=""/>
          <p:cNvPicPr/>
          <p:nvPr/>
        </p:nvPicPr>
        <p:blipFill>
          <a:blip r:embed="rId11"/>
          <a:stretch/>
        </p:blipFill>
        <p:spPr>
          <a:xfrm>
            <a:off x="5559480" y="6324480"/>
            <a:ext cx="504720" cy="285840"/>
          </a:xfrm>
          <a:prstGeom prst="rect">
            <a:avLst/>
          </a:prstGeom>
          <a:ln w="0">
            <a:noFill/>
          </a:ln>
        </p:spPr>
      </p:pic>
      <p:pic>
        <p:nvPicPr>
          <p:cNvPr id="933" name="Picture 9" descr=""/>
          <p:cNvPicPr/>
          <p:nvPr/>
        </p:nvPicPr>
        <p:blipFill>
          <a:blip r:embed="rId12"/>
          <a:stretch/>
        </p:blipFill>
        <p:spPr>
          <a:xfrm>
            <a:off x="7504200" y="6319800"/>
            <a:ext cx="504720" cy="2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1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4" name="Picture 2" descr=""/>
          <p:cNvPicPr/>
          <p:nvPr/>
        </p:nvPicPr>
        <p:blipFill>
          <a:blip r:embed="rId1"/>
          <a:stretch/>
        </p:blipFill>
        <p:spPr>
          <a:xfrm>
            <a:off x="100080" y="1125360"/>
            <a:ext cx="8943840" cy="5305680"/>
          </a:xfrm>
          <a:prstGeom prst="rect">
            <a:avLst/>
          </a:prstGeom>
          <a:ln w="0">
            <a:noFill/>
          </a:ln>
        </p:spPr>
      </p:pic>
      <p:pic>
        <p:nvPicPr>
          <p:cNvPr id="935" name="Picture 9" descr=""/>
          <p:cNvPicPr/>
          <p:nvPr/>
        </p:nvPicPr>
        <p:blipFill>
          <a:blip r:embed="rId2"/>
          <a:stretch/>
        </p:blipFill>
        <p:spPr>
          <a:xfrm>
            <a:off x="4071960" y="2214720"/>
            <a:ext cx="504720" cy="285480"/>
          </a:xfrm>
          <a:prstGeom prst="rect">
            <a:avLst/>
          </a:prstGeom>
          <a:ln w="0">
            <a:noFill/>
          </a:ln>
        </p:spPr>
      </p:pic>
      <p:pic>
        <p:nvPicPr>
          <p:cNvPr id="936" name="Picture 9" descr=""/>
          <p:cNvPicPr/>
          <p:nvPr/>
        </p:nvPicPr>
        <p:blipFill>
          <a:blip r:embed="rId3"/>
          <a:stretch/>
        </p:blipFill>
        <p:spPr>
          <a:xfrm>
            <a:off x="3357720" y="2529000"/>
            <a:ext cx="785520" cy="285480"/>
          </a:xfrm>
          <a:prstGeom prst="rect">
            <a:avLst/>
          </a:prstGeom>
          <a:ln w="0">
            <a:noFill/>
          </a:ln>
        </p:spPr>
      </p:pic>
      <p:pic>
        <p:nvPicPr>
          <p:cNvPr id="937" name="Picture 9" descr=""/>
          <p:cNvPicPr/>
          <p:nvPr/>
        </p:nvPicPr>
        <p:blipFill>
          <a:blip r:embed="rId4"/>
          <a:stretch/>
        </p:blipFill>
        <p:spPr>
          <a:xfrm>
            <a:off x="3743280" y="2857680"/>
            <a:ext cx="785880" cy="285480"/>
          </a:xfrm>
          <a:prstGeom prst="rect">
            <a:avLst/>
          </a:prstGeom>
          <a:ln w="0">
            <a:noFill/>
          </a:ln>
        </p:spPr>
      </p:pic>
      <p:pic>
        <p:nvPicPr>
          <p:cNvPr id="938" name="Picture 9" descr=""/>
          <p:cNvPicPr/>
          <p:nvPr/>
        </p:nvPicPr>
        <p:blipFill>
          <a:blip r:embed="rId5"/>
          <a:stretch/>
        </p:blipFill>
        <p:spPr>
          <a:xfrm>
            <a:off x="357120" y="4000680"/>
            <a:ext cx="8643960" cy="28548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9" descr=""/>
          <p:cNvPicPr/>
          <p:nvPr/>
        </p:nvPicPr>
        <p:blipFill>
          <a:blip r:embed="rId6"/>
          <a:stretch/>
        </p:blipFill>
        <p:spPr>
          <a:xfrm>
            <a:off x="1357200" y="4695840"/>
            <a:ext cx="785880" cy="285840"/>
          </a:xfrm>
          <a:prstGeom prst="rect">
            <a:avLst/>
          </a:prstGeom>
          <a:ln w="0">
            <a:noFill/>
          </a:ln>
        </p:spPr>
      </p:pic>
      <p:pic>
        <p:nvPicPr>
          <p:cNvPr id="940" name="Picture 9" descr=""/>
          <p:cNvPicPr/>
          <p:nvPr/>
        </p:nvPicPr>
        <p:blipFill>
          <a:blip r:embed="rId7"/>
          <a:stretch/>
        </p:blipFill>
        <p:spPr>
          <a:xfrm>
            <a:off x="2633760" y="4695840"/>
            <a:ext cx="504720" cy="285840"/>
          </a:xfrm>
          <a:prstGeom prst="rect">
            <a:avLst/>
          </a:prstGeom>
          <a:ln w="0">
            <a:noFill/>
          </a:ln>
        </p:spPr>
      </p:pic>
      <p:pic>
        <p:nvPicPr>
          <p:cNvPr id="941" name="Picture 9" descr=""/>
          <p:cNvPicPr/>
          <p:nvPr/>
        </p:nvPicPr>
        <p:blipFill>
          <a:blip r:embed="rId8"/>
          <a:stretch/>
        </p:blipFill>
        <p:spPr>
          <a:xfrm>
            <a:off x="3567240" y="4714920"/>
            <a:ext cx="504720" cy="285840"/>
          </a:xfrm>
          <a:prstGeom prst="rect">
            <a:avLst/>
          </a:prstGeom>
          <a:ln w="0">
            <a:noFill/>
          </a:ln>
        </p:spPr>
      </p:pic>
      <p:pic>
        <p:nvPicPr>
          <p:cNvPr id="942" name="Picture 9" descr=""/>
          <p:cNvPicPr/>
          <p:nvPr/>
        </p:nvPicPr>
        <p:blipFill>
          <a:blip r:embed="rId9"/>
          <a:stretch/>
        </p:blipFill>
        <p:spPr>
          <a:xfrm>
            <a:off x="366840" y="5397480"/>
            <a:ext cx="8643960" cy="285840"/>
          </a:xfrm>
          <a:prstGeom prst="rect">
            <a:avLst/>
          </a:prstGeom>
          <a:ln w="0">
            <a:noFill/>
          </a:ln>
        </p:spPr>
      </p:pic>
      <p:pic>
        <p:nvPicPr>
          <p:cNvPr id="943" name="Picture 9" descr=""/>
          <p:cNvPicPr/>
          <p:nvPr/>
        </p:nvPicPr>
        <p:blipFill>
          <a:blip r:embed="rId10"/>
          <a:stretch/>
        </p:blipFill>
        <p:spPr>
          <a:xfrm>
            <a:off x="357120" y="5743440"/>
            <a:ext cx="8643960" cy="285840"/>
          </a:xfrm>
          <a:prstGeom prst="rect">
            <a:avLst/>
          </a:prstGeom>
          <a:ln w="0">
            <a:noFill/>
          </a:ln>
        </p:spPr>
      </p:pic>
      <p:pic>
        <p:nvPicPr>
          <p:cNvPr id="944" name="Picture 9" descr=""/>
          <p:cNvPicPr/>
          <p:nvPr/>
        </p:nvPicPr>
        <p:blipFill>
          <a:blip r:embed="rId11"/>
          <a:stretch/>
        </p:blipFill>
        <p:spPr>
          <a:xfrm>
            <a:off x="357120" y="6091200"/>
            <a:ext cx="8643960" cy="2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8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3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8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3" dur="5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8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3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8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3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8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3" dur="5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27T07:16:15Z</dcterms:modified>
  <cp:revision>47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